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CC6-3EB8-4137-B83F-526946B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1B4-94D9-4A12-B410-D09E08C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C3D-89CE-4DAA-96F4-2EFEACA8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201-7B26-45A3-9198-9B5F19B1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E61-625E-4CB5-A5A5-B8BC8888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B31-0FF4-4D4F-BD17-A3D172A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261-4055-44D2-ADA0-1121D1F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41D-3E15-4B46-A396-2932274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E9B-7CF2-4992-B252-C5D65885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32F-9039-4C23-8EA8-C6A1D89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470-E304-4E6D-8D6B-5967756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73B-6E2A-4FC5-9BA5-CE125A4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4D0-1F93-4FA8-BF49-E6B4AA4D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141720"/>
            <a:ext cx="2663640" cy="2520720"/>
            <a:chOff x="3203640" y="3141720"/>
            <a:chExt cx="2663640" cy="2520720"/>
          </a:xfrm>
        </p:grpSpPr>
        <p:sp>
          <p:nvSpPr>
            <p:cNvPr id="48" name=""/>
            <p:cNvSpPr/>
            <p:nvPr/>
          </p:nvSpPr>
          <p:spPr>
            <a:xfrm>
              <a:off x="3203640" y="3141720"/>
              <a:ext cx="2663640" cy="252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3790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509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509720"/>
              <a:ext cx="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06864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Speed  form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4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3933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Use the formula to work out simply distance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78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1916280"/>
            <a:ext cx="76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ar took 3 hours to complete a journey  24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89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91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94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96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4788000" y="530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5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106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1520" y="191628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train took 9 hours to complete a journey  of 117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117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122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1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124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57200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134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1520" y="191628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train took 9 hours to complete a journey  of 117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145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147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150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1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152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57200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162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xx Exercise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9T21:15:20Z</dcterms:modified>
  <cp:revision>18</cp:revision>
  <dc:subject/>
  <dc:title>Slide 1</dc:title>
</cp:coreProperties>
</file>